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3BFFD-8018-4363-ABC7-AF1887EC4E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A6C6D-2C07-41F4-A37A-89F69F07A6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FF351-8C78-4B41-A793-02B62251CD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50A75-6491-4086-B374-3E7B1B637F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7AF2C-D715-4836-8C8E-CD7025F5BF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D2585-FFC0-46E3-9F3A-1F0C8CBEBB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77DBA-DA66-4673-89AC-02C038AAFE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B35A5-9C8F-458E-854D-9F858ECC30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3A156-50E1-4501-BA47-D15887D03E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2129-9BDD-4F79-8F73-BB03037B6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9C80-7DF4-4837-A211-F7FC8164F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8578-69C5-4636-9D1A-3E2DE0921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4C9B-97D8-45B1-B12E-6B2B218DD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97A4B-CA96-47BB-BED9-5DA7AC94A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BF6D4-C220-4AA2-B49F-C838E31F1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FEFA5-A939-4BD6-9728-109EA7424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72270-68AD-4DFD-911A-B4B9A1391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400B8-6280-4E8A-8E85-C74FDFA99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4DE5C-373B-4446-A171-BC9EF4BBF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F4AEC-62E4-49F2-A8DE-6288DB69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16B8-C457-4563-8A25-3B897B42E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3B6C6-B73E-4806-8EC9-292956F8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49770-4D1B-4D1C-A01C-4EF39C470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E1D73-2F09-421D-B00D-5EE51D0AA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E88A0-FFF3-4F55-998A-D4E11D505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E3EC8-5B4A-442C-84AD-63A0B4862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BCA33-1254-4FC0-B124-FCDF22A50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48505-3610-477B-BCB6-ECF9156A1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12507-01F9-443E-945D-2CEC46A80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97D5E-84E5-4E06-97D6-4CFA71C73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EFD14-C8A2-43D0-9BC0-0849618F0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C949-8220-481F-BBD3-2E43F7B72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9C4E0-D7C2-4D7B-93B7-EA3188016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B74C7-6676-44EA-AF7A-3983E66C6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97C73-4AAD-4C45-A794-58829D81E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86BDD-3B9D-42C3-9B06-9E33D2F75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C8A8A-69B0-4FA5-9A46-0A48C42A2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3D5F6-4F8E-451A-BF60-BE065659F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444B7-BB6E-47B7-ABBA-B07BB5292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D7465-BB67-421A-9E97-378C239F9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5464B-2FE3-40BB-AD68-B09FD889C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DE386-C868-4D04-9A02-73009AD31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F5A2-8C29-46E4-AD76-1F22C235A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00FBC-67C8-42A2-AE2D-68BCD3391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6C963-1828-42FC-BC60-47A997928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DE0E6-8951-4628-94ED-90A4187A2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DBC48-FC6A-4BCD-AFC5-BCF1F46F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71B80-AB5B-436F-AD7C-A33777D2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DCD40-9E5E-4568-9346-8AEEB6E9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1AF8F-D518-4AD4-82F3-8D0A88501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DB891-AD0E-41DD-8EC5-32A2FCACB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7C3E5-BF7C-49BF-BA28-B5B8EFE74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4CAACB-8DA6-4105-A719-ADD8FDD02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FCC1-288E-4A3D-998A-199D878D6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B2F303-049B-490E-BBFA-8BE04FE67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50356-FF38-4990-A909-FA68809A6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DF4508-FFDE-4E87-ADDC-74FDF0932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04290-5453-48D7-A99D-934CA3D93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F3F1A-9419-4345-9E08-61D92A529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052A2-B9BA-4F3B-9A91-31BCAEA3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05035-9E66-4DEB-886B-D76EC773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01011-0EF6-486E-AFD6-965FB014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F96CCE-A89A-4649-AF71-1AA7C6321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86EB5A-D9C9-4E21-A137-0DD612DE6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FF7E-5351-471F-8342-61CAC9E0B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E8C02-6008-44CC-B069-0CC42D26A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7C9165-2E3F-42F1-917E-FAE6FADF6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077E09-59E3-4769-ADE5-57B94A1CB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ACDC17-67A8-437F-B07C-472BC5CAE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EABA2C-9D87-41CC-A2FF-8078702E7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45274A-49D8-49AE-8416-8B8B759E6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AD4777-F00E-419F-BA4B-57FC737E2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F4A80B-93AC-4FF5-A020-FFAD7A1B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C26CEC-8693-455A-A9EF-C5DE8BDA4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2B7D76-8997-46D0-9B3D-A6DDEC8F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EB8B-5349-4872-B7A5-9B6E1802B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6B182D-8886-4602-A798-2325E43E3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154DAC-DB9C-4927-AC69-C9C90CC0B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80C787-57C8-4FA0-A1D6-330397E2B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41190A-DE94-4583-9D4D-75B948115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04141A-3A1C-4DCB-B4D3-5B22D9DF2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21E0C5-3DFF-47C5-A51D-A5BDFF0C6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2995C9-4F07-4D58-8436-FDAB6861B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2917B5-0D9C-4C79-9018-4FB057517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04576A-B704-4A4D-9B78-410516ACF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FF3438-2EC3-4243-A2F6-055C76C15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D9BD-A1C5-43B1-BBFA-0BA7587AD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424CDD-0F4B-4F30-B948-BD9E9D1A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62CA70-E48C-4933-B59C-1C8D33EB8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0DCBF1-2472-48AB-9602-CE27D973E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B605DB-3747-40C9-B6FB-3371BF7E3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19FA90-CEEE-46C8-AB76-4D56FF8F5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522A-D8E1-4A98-B456-C192836B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453ED-6817-4596-BA7A-5871D6BBB6D8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C9329-85C4-4AD2-A9CB-A761B103963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0E8C6-0B3D-430A-99BC-845D9A3D376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55250-E6F9-4FB0-942B-57A3A523209A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3298E-1F7F-4775-A168-FA100355D895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67A48-93A5-4CA1-9287-5B32D4F2F742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20A49-E766-422D-84A4-EF87A63F6FA3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396720" y="3157560"/>
            <a:ext cx="8375760" cy="187812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ave power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cale down power rai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Ensure Reliability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Issues with variation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Issues with timing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Identify and Replace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Use custom cel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Use different cell from library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Title 1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456840" y="1698120"/>
            <a:ext cx="4040280" cy="716040"/>
          </a:xfrm>
          <a:prstGeom prst="rect">
            <a:avLst/>
          </a:prstGeom>
          <a:noFill/>
          <a:ln w="0">
            <a:noFill/>
          </a:ln>
        </p:spPr>
        <p:txBody>
          <a:bodyPr lIns="146160" rIns="90000" tIns="91440" bIns="46800" anchor="ctr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orbel"/>
              </a:rPr>
              <a:t>TOOL FLOW</a:t>
            </a: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6" name="Picture 3" descr=""/>
          <p:cNvPicPr/>
          <p:nvPr/>
        </p:nvPicPr>
        <p:blipFill>
          <a:blip r:embed="rId2"/>
          <a:stretch/>
        </p:blipFill>
        <p:spPr>
          <a:xfrm>
            <a:off x="1676520" y="2298600"/>
            <a:ext cx="1263600" cy="414036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644720" y="1698120"/>
            <a:ext cx="4041720" cy="716040"/>
          </a:xfrm>
          <a:prstGeom prst="rect">
            <a:avLst/>
          </a:prstGeom>
          <a:noFill/>
          <a:ln w="0">
            <a:noFill/>
          </a:ln>
        </p:spPr>
        <p:txBody>
          <a:bodyPr lIns="146160" rIns="90000" tIns="91440" bIns="46800"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rbel"/>
              </a:rPr>
              <a:t>FUNCTION</a:t>
            </a: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644720" y="244944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Uses Perl to open path and write celllist.ls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kill and Perl work together to generate schematic with all cell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tart Cadence and collect info with log fil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itle 1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456840" y="1698120"/>
            <a:ext cx="4040280" cy="716040"/>
          </a:xfrm>
          <a:prstGeom prst="rect">
            <a:avLst/>
          </a:prstGeom>
          <a:noFill/>
          <a:ln w="0">
            <a:noFill/>
          </a:ln>
        </p:spPr>
        <p:txBody>
          <a:bodyPr lIns="146160" rIns="90000" tIns="91440" bIns="46800"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rbel"/>
              </a:rPr>
              <a:t>TOOL FLOW</a:t>
            </a: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644720" y="1698120"/>
            <a:ext cx="4041720" cy="716040"/>
          </a:xfrm>
          <a:prstGeom prst="rect">
            <a:avLst/>
          </a:prstGeom>
          <a:noFill/>
          <a:ln w="0">
            <a:noFill/>
          </a:ln>
        </p:spPr>
        <p:txBody>
          <a:bodyPr lIns="146160" rIns="90000" tIns="91440" bIns="46800"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rbel"/>
              </a:rPr>
              <a:t>FUNCTION</a:t>
            </a: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644720" y="244944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7000"/>
          </a:bodyPr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kill Creates secondary library of cells for testing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Big ocean created with Perl which contains test information for each cel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Ocean runs and creates individual result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Perl script checks output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1828800" y="2489040"/>
            <a:ext cx="1219320" cy="41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Title 1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" descr="C:\Users\Steve Jocke\Desktop\cell setup.bmp"/>
          <p:cNvPicPr/>
          <p:nvPr/>
        </p:nvPicPr>
        <p:blipFill>
          <a:blip r:embed="rId2"/>
          <a:stretch/>
        </p:blipFill>
        <p:spPr>
          <a:xfrm>
            <a:off x="0" y="2438280"/>
            <a:ext cx="9144000" cy="441972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3"/>
          <p:cNvSpPr/>
          <p:nvPr/>
        </p:nvSpPr>
        <p:spPr>
          <a:xfrm>
            <a:off x="0" y="1447920"/>
            <a:ext cx="9144000" cy="990360"/>
          </a:xfrm>
          <a:prstGeom prst="rect">
            <a:avLst/>
          </a:prstGeom>
          <a:solidFill>
            <a:srgbClr val="bac0cc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TextBox 4"/>
          <p:cNvSpPr/>
          <p:nvPr/>
        </p:nvSpPr>
        <p:spPr>
          <a:xfrm>
            <a:off x="0" y="1447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The figure below displays a typical testing setup for a cell from the ST 120 library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Another thought to keep in mind is the timing of the waveforms of the inputs.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" descr=""/>
          <p:cNvPicPr/>
          <p:nvPr/>
        </p:nvPicPr>
        <p:blipFill>
          <a:blip r:embed="rId2"/>
          <a:stretch/>
        </p:blipFill>
        <p:spPr>
          <a:xfrm>
            <a:off x="380880" y="1676520"/>
            <a:ext cx="5257800" cy="4535280"/>
          </a:xfrm>
          <a:prstGeom prst="rect">
            <a:avLst/>
          </a:prstGeom>
          <a:ln w="0">
            <a:noFill/>
          </a:ln>
        </p:spPr>
      </p:pic>
      <p:sp>
        <p:nvSpPr>
          <p:cNvPr id="330" name="TextBox 4"/>
          <p:cNvSpPr/>
          <p:nvPr/>
        </p:nvSpPr>
        <p:spPr>
          <a:xfrm>
            <a:off x="5867280" y="1676520"/>
            <a:ext cx="3048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Want a process TT (typical N&amp;P) to sit on the balanced process line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These effects are amplified due to the exponential dependence on current in sub-threshold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SF corner is a worst case scenario in P-Strong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(left box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FS corner is the worst case scenario in N-Strong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(right box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Title 1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456840" y="1698120"/>
            <a:ext cx="4040280" cy="716040"/>
          </a:xfrm>
          <a:prstGeom prst="rect">
            <a:avLst/>
          </a:prstGeom>
          <a:noFill/>
          <a:ln w="0">
            <a:noFill/>
          </a:ln>
        </p:spPr>
        <p:txBody>
          <a:bodyPr lIns="146160" rIns="90000" tIns="91440" bIns="46800"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rbel"/>
              </a:rPr>
              <a:t>ST MICRO 90 (715 CELLS)</a:t>
            </a: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56840" y="244944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Includes D FF’s &amp; D latche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Tested at Tmin = 2 uSec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Vdd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FF TT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SS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FS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SF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.35      20 20  18  15  24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.3         17 21  21  15   35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.25      20 20 20  15   49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.2        22 19  21  13   57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644720" y="1698120"/>
            <a:ext cx="4041720" cy="716040"/>
          </a:xfrm>
          <a:prstGeom prst="rect">
            <a:avLst/>
          </a:prstGeom>
          <a:noFill/>
          <a:ln w="0">
            <a:noFill/>
          </a:ln>
        </p:spPr>
        <p:txBody>
          <a:bodyPr lIns="146160" rIns="90000" tIns="91440" bIns="46800"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rbel"/>
              </a:rPr>
              <a:t>ST MICRO 120 (698 CELLS)</a:t>
            </a: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644720" y="244944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Includes D FF’s &amp; D latche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Tested at Tmin = 2 uSec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Vdd  FF TT SS FS SF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.35     22 25  29  10  35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.3       25 25  28   8   41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.25    25 27   27   8   41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.2      25 29  29   8   41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Title 1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456840" y="1698120"/>
            <a:ext cx="4040280" cy="716040"/>
          </a:xfrm>
          <a:prstGeom prst="rect">
            <a:avLst/>
          </a:prstGeom>
          <a:noFill/>
          <a:ln w="0">
            <a:noFill/>
          </a:ln>
        </p:spPr>
        <p:txBody>
          <a:bodyPr lIns="146160" rIns="90000" tIns="91440" bIns="46800" anchor="ctr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rbel"/>
              </a:rPr>
              <a:t>ST MICRO 90 (715 CELLS)</a:t>
            </a: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6840" y="244944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Not Including D FF’s &amp; D latches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Tested at Tmin = 2 uSec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Vdd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FF TT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SS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FS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SF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.35       4    4   4    4    5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.3         4    4   4    4     5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.25      4    4   4    4     5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.2        4    4   4    4     5      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644720" y="1698120"/>
            <a:ext cx="4041720" cy="716040"/>
          </a:xfrm>
          <a:prstGeom prst="rect">
            <a:avLst/>
          </a:prstGeom>
          <a:noFill/>
          <a:ln w="0">
            <a:noFill/>
          </a:ln>
        </p:spPr>
        <p:txBody>
          <a:bodyPr lIns="146160" rIns="90000" tIns="91440" bIns="46800" anchor="ctr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rbel"/>
              </a:rPr>
              <a:t>ST MICRO 120 (698 CELLS)</a:t>
            </a: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644720" y="244944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Not Including D FF’s &amp; D latches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Tested at Tmin = 2 uSec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Vdd  FF TT SS FS SF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.35     5    5    5     5    5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.3       5    5    5     5    5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.25    5    5    5     5     5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.2      5    5    13   8     5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2T23:46:49Z</dcterms:created>
  <dc:creator>Steve Jocke</dc:creator>
  <dc:description/>
  <dc:language>en-US</dc:language>
  <cp:lastModifiedBy>Steve Jocke</cp:lastModifiedBy>
  <dcterms:modified xsi:type="dcterms:W3CDTF">2007-12-04T18:03:27Z</dcterms:modified>
  <cp:revision>146</cp:revision>
  <dc:subject/>
  <dc:title>Slide 1</dc:title>
</cp:coreProperties>
</file>